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43.jpeg" ContentType="image/jpeg"/>
  <Override PartName="/ppt/media/image9.png" ContentType="image/png"/>
  <Override PartName="/ppt/media/image44.jpeg" ContentType="image/jpeg"/>
  <Override PartName="/ppt/media/image40.jpeg" ContentType="image/jpeg"/>
  <Override PartName="/ppt/media/image30.jpeg" ContentType="image/jpeg"/>
  <Override PartName="/ppt/media/image35.wmf" ContentType="image/x-wmf"/>
  <Override PartName="/ppt/media/image31.png" ContentType="image/png"/>
  <Override PartName="/ppt/media/image6.png" ContentType="image/png"/>
  <Override PartName="/ppt/media/image37.jpeg" ContentType="image/jpeg"/>
  <Override PartName="/ppt/media/image13.png" ContentType="image/png"/>
  <Override PartName="/ppt/media/image38.wmf" ContentType="image/x-wmf"/>
  <Override PartName="/ppt/media/image39.wmf" ContentType="image/x-wmf"/>
  <Override PartName="/ppt/media/image41.jpeg" ContentType="image/jpeg"/>
  <Override PartName="/ppt/media/image45.jpeg" ContentType="image/jpeg"/>
  <Override PartName="/ppt/media/image42.jpeg" ContentType="image/jpeg"/>
  <Override PartName="/ppt/media/image46.png" ContentType="image/png"/>
  <Override PartName="/ppt/media/image11.png" ContentType="image/pn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6.jpeg" ContentType="image/jpeg"/>
  <Override PartName="/ppt/media/image2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2772-BAE8-431D-8720-E49A32B38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5821-5752-4153-80D8-C790F8B4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77A4-CAA4-4C96-BC11-58F054C61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B4AF-5130-4E84-900D-5A7F381EE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B448-B12B-4F66-A8D0-4A3473C2F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42AB-A210-4A23-922E-9954DB06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C9B6-0A36-4724-B987-A787042F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9D40-4A3C-4FCD-8E51-F24C1FF6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575E-F805-4DBB-84D1-49FD524C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0A35-C2FE-412E-9E1F-0E269229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8529-4A97-41BB-A9B4-6F1D5746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694A-8358-4F91-9B9B-AFCFE5DC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B026-FDFD-4781-8554-845AEBEB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E181-A71E-47D3-9359-CD320B45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DE5D-581C-4C91-B4C6-E080A09B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2932-9F26-4AC4-8A03-BD5CEB81F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5296-4470-4540-A8FB-04096DD8D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A9E539-AFB2-461A-815C-219A73360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CA492B-4AE6-473B-9A60-114AF234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DB7F24-15CB-49C0-9002-B4906DFF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13B545-9D30-430D-B0AC-3C58B000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9B0502-9427-4765-BB14-0FE70D25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8F34-2773-488B-A163-441C3F3A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313C6B-99F6-4005-B106-1FA5A55F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9EFE12-44B5-4A46-AA23-DF516E4D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9EAAB9-B428-42BD-9994-6F275CF5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2DBDC2-091D-4549-BB5E-8FC5572D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A7C38F-8E55-46A9-B931-C0060B41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FC3D52-D1D2-4FCB-AA26-140BA23F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EA5431-1923-4116-A8D3-B4FBA1D60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1257B6-3A44-4687-834A-CA6F4CB85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F99A0C-440F-4BAB-A338-A90C8F22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9F56D2-2C48-43CF-BF25-47C717C4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6623-317A-43A7-A96A-070BFE75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3C1C4E-0E59-49E8-AEDE-C987EC70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02C137-4515-47A4-8B5F-A02AB55F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6358BD-C2F8-414F-89E7-AA25E516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48193D-E595-4B91-90A0-24861F3A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CEF1F3-D560-4D09-B98D-6AF2A764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53B23C-C4C3-4378-8DE8-1CE862B7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F72F08-A31E-480E-9328-85CC3CFF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4158C2-1247-4F34-9E0D-1AAC69F53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CB1F29-AE64-4150-92F0-CEEE2EBD9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D3A0E6-5AEF-463D-844A-3BC9AEF7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46F0-A91C-4D4A-90BB-FD49F4E3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7D23CD-CB82-44E9-891F-21FBCDD0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FF91C2-9BBA-4718-81E2-AD5BAEB7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2078D2-BC91-41B9-B360-BEBCDD11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B7E263-A159-438A-AE93-09D1C38E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00A6B2-1689-4F08-8880-09A73638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948B74-BC1A-4DD1-85F1-398BA86B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A482A1-563C-4D41-A628-76F7ECE0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845241-431A-410E-BE7F-4B58979E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42B28F-A675-4777-AD71-EF587EBF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F6FE0A-DE76-4F87-B6BF-F496AB98E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7B71-9B0E-4400-BB33-25D49BD3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44DB65-2603-494F-95AB-D9DB60B2E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0C2E4-CD55-471F-BE45-44DFE5653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1C754-7797-4E92-A2F6-50ACC0FB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FEBDA-99F9-4776-8C6A-B2F6A0F2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069AE-B541-4C79-B6C8-E377A832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30A8F-31EE-4E26-A32C-826B09F5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30656-4560-4103-9D0E-90E68C66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1F14F-97A8-462C-B915-65EBE582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2C384-3E3D-4ED7-9239-A07718B3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7B5AA-50F4-4A9D-B899-9F10A186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D3E2-31C1-4F80-84A1-049B2391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60097-24A7-4A5E-A614-B03741D4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FC616-30EF-4192-B492-40228210C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B582E-8A3B-4947-9160-ED1E88D91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6B161A-80A0-4398-901A-6115C4A69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E93F85-F8D4-4731-A708-D24FC7E2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3783CA-FEC9-49CC-9A4B-02D149EB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F471EB-CD4D-402C-9BF6-6DD341BB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4333F9-84C9-4C7A-A2C9-CAE30A81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5F4A79-695B-493C-BACA-5520ECAB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78F1D6-6717-465B-BDF5-007C7D0E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5C50-5D97-48F2-A7DC-E34DC089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76525E-146F-482A-B434-FD15AB0C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06997C-B244-413A-863D-89A20A53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A7CF1F-5423-49EB-856C-1040E3C7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19E7BC-606A-415C-9AA8-2A07A776B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BC8CF1-E892-4DD9-94E6-64F9D186F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298DC-2BF4-4CCF-B4EC-B00609AEF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66B15-E7DC-4846-9B24-E635F503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D272A-9286-4CF3-9CA4-DDCD4605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0988E-CB00-4AD2-96B1-F02CBB56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8A6D6-633F-40DB-80CD-8DA53209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E9C5-B9E8-4A9C-9E9A-00D76BB7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3BC22-DBD0-4AC7-9F23-FA4593B1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EADFE-893F-43E2-90F2-D41B8F17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CD7F0-B6E8-425B-BC80-AFD3F6C6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5DFD9-C319-4906-AA52-78510044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8BA79-8119-48DA-9C00-9A734C26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8FEBC-6E98-4F41-95AD-2C02A4748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C9219-1AD1-4C4D-9426-312D7257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C711-1045-46AC-AF6E-B6E115089B45}" type="slidenum"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rostokąt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rostokąt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rostokąt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7F2E-9DAD-4D04-9D94-822C24C58ACC}" type="slidenum">
              <a:rPr b="1" lang="pl-PL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rostokąt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rostokąt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rostokąt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DE53-3274-4D18-A320-976A438C16E5}" type="slidenum"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F3BC-37CE-4B5D-8226-CDABB437D390}" type="slidenum"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5062-C28D-4460-AE0C-E72CD718896E}" type="slidenum"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13A5-1EF5-498C-9888-3D24F1CF8475}" type="slidenum">
              <a:rPr b="1" lang="pl-PL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rostokąt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rostokąt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rostokąt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Prostokąt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B10E-0BC4-4F70-B387-85A7070E1AED}" type="slidenum"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rostokąt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rostokąt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rostokąt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E437-0DED-4DC2-970F-E5EC218E430A}" type="slidenum"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iscoveringegypt.com/hieroglyphic-typewriter.html" TargetMode="Externa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3ed"/>
            </a:gs>
            <a:gs pos="100000">
              <a:srgbClr val="e9f0f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68360" y="400536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0" spc="-1" strike="noStrike">
                <a:solidFill>
                  <a:srgbClr val="0070c0"/>
                </a:solidFill>
                <a:latin typeface="Tw Cen MT"/>
              </a:rPr>
              <a:t>LICZBY I CYFRY</a:t>
            </a:r>
            <a:endParaRPr b="0" lang="en-US" sz="8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Tw Cen MT"/>
              </a:rPr>
              <a:t>Różne sposoby zapisywania liczb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2" name="Prostokąt 4" descr=""/>
          <p:cNvPicPr/>
          <p:nvPr/>
        </p:nvPicPr>
        <p:blipFill>
          <a:blip r:embed="rId1"/>
          <a:stretch/>
        </p:blipFill>
        <p:spPr>
          <a:xfrm>
            <a:off x="158760" y="2328840"/>
            <a:ext cx="8955000" cy="1523880"/>
          </a:xfrm>
          <a:prstGeom prst="rect">
            <a:avLst/>
          </a:prstGeom>
          <a:ln w="0">
            <a:noFill/>
          </a:ln>
        </p:spPr>
      </p:pic>
      <p:grpSp>
        <p:nvGrpSpPr>
          <p:cNvPr id="353" name="Grupa 6"/>
          <p:cNvGrpSpPr/>
          <p:nvPr/>
        </p:nvGrpSpPr>
        <p:grpSpPr>
          <a:xfrm>
            <a:off x="324000" y="630360"/>
            <a:ext cx="8578800" cy="1170000"/>
            <a:chOff x="324000" y="630360"/>
            <a:chExt cx="8578800" cy="1170000"/>
          </a:xfrm>
        </p:grpSpPr>
        <p:pic>
          <p:nvPicPr>
            <p:cNvPr id="354" name="Obraz 7" descr=""/>
            <p:cNvPicPr/>
            <p:nvPr/>
          </p:nvPicPr>
          <p:blipFill>
            <a:blip r:embed="rId2"/>
            <a:stretch/>
          </p:blipFill>
          <p:spPr>
            <a:xfrm>
              <a:off x="324000" y="797760"/>
              <a:ext cx="1041120" cy="100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Grupa 8"/>
            <p:cNvGrpSpPr/>
            <p:nvPr/>
          </p:nvGrpSpPr>
          <p:grpSpPr>
            <a:xfrm>
              <a:off x="1370520" y="851760"/>
              <a:ext cx="678960" cy="829080"/>
              <a:chOff x="1370520" y="851760"/>
              <a:chExt cx="678960" cy="829080"/>
            </a:xfrm>
          </p:grpSpPr>
          <p:pic>
            <p:nvPicPr>
              <p:cNvPr id="356" name="Obraz 17" descr=""/>
              <p:cNvPicPr/>
              <p:nvPr/>
            </p:nvPicPr>
            <p:blipFill>
              <a:blip r:embed="rId3"/>
              <a:srcRect l="13908" t="0" r="16795" b="0"/>
              <a:stretch/>
            </p:blipFill>
            <p:spPr>
              <a:xfrm>
                <a:off x="1370520" y="851760"/>
                <a:ext cx="67896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Elipsa 18"/>
              <p:cNvSpPr/>
              <p:nvPr/>
            </p:nvSpPr>
            <p:spPr>
              <a:xfrm>
                <a:off x="1644840" y="913320"/>
                <a:ext cx="42840" cy="33840"/>
              </a:xfrm>
              <a:prstGeom prst="ellipse">
                <a:avLst/>
              </a:prstGeom>
              <a:solidFill>
                <a:srgbClr val="94b6d2"/>
              </a:solidFill>
              <a:ln w="19080">
                <a:solidFill>
                  <a:srgbClr val="6b85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358" name="Elipsa 19"/>
              <p:cNvSpPr/>
              <p:nvPr/>
            </p:nvSpPr>
            <p:spPr>
              <a:xfrm>
                <a:off x="1754640" y="977040"/>
                <a:ext cx="42840" cy="33840"/>
              </a:xfrm>
              <a:prstGeom prst="ellipse">
                <a:avLst/>
              </a:prstGeom>
              <a:solidFill>
                <a:srgbClr val="94b6d2"/>
              </a:solidFill>
              <a:ln w="19080">
                <a:solidFill>
                  <a:srgbClr val="6b85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  <p:pic>
          <p:nvPicPr>
            <p:cNvPr id="359" name="Obraz 9" descr=""/>
            <p:cNvPicPr/>
            <p:nvPr/>
          </p:nvPicPr>
          <p:blipFill>
            <a:blip r:embed="rId4"/>
            <a:stretch/>
          </p:blipFill>
          <p:spPr>
            <a:xfrm>
              <a:off x="2108880" y="703080"/>
              <a:ext cx="714960" cy="6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Obraz 10" descr=""/>
            <p:cNvPicPr/>
            <p:nvPr/>
          </p:nvPicPr>
          <p:blipFill>
            <a:blip r:embed="rId5"/>
            <a:stretch/>
          </p:blipFill>
          <p:spPr>
            <a:xfrm>
              <a:off x="7099200" y="735480"/>
              <a:ext cx="106344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Obraz 11" descr=""/>
            <p:cNvPicPr/>
            <p:nvPr/>
          </p:nvPicPr>
          <p:blipFill>
            <a:blip r:embed="rId6"/>
            <a:stretch/>
          </p:blipFill>
          <p:spPr>
            <a:xfrm>
              <a:off x="4591800" y="964080"/>
              <a:ext cx="903960" cy="76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Obraz 12" descr=""/>
            <p:cNvPicPr/>
            <p:nvPr/>
          </p:nvPicPr>
          <p:blipFill>
            <a:blip r:embed="rId7"/>
            <a:stretch/>
          </p:blipFill>
          <p:spPr>
            <a:xfrm>
              <a:off x="3715200" y="703080"/>
              <a:ext cx="97560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Obraz 13" descr=""/>
            <p:cNvPicPr/>
            <p:nvPr/>
          </p:nvPicPr>
          <p:blipFill>
            <a:blip r:embed="rId8"/>
            <a:stretch/>
          </p:blipFill>
          <p:spPr>
            <a:xfrm>
              <a:off x="7832880" y="797760"/>
              <a:ext cx="1069920" cy="90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Obraz 14" descr=""/>
            <p:cNvPicPr/>
            <p:nvPr/>
          </p:nvPicPr>
          <p:blipFill>
            <a:blip r:embed="rId9"/>
            <a:stretch/>
          </p:blipFill>
          <p:spPr>
            <a:xfrm>
              <a:off x="6127200" y="757080"/>
              <a:ext cx="1187640" cy="10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Obraz 15" descr=""/>
            <p:cNvPicPr/>
            <p:nvPr/>
          </p:nvPicPr>
          <p:blipFill>
            <a:blip r:embed="rId10"/>
            <a:stretch/>
          </p:blipFill>
          <p:spPr>
            <a:xfrm>
              <a:off x="5235840" y="630360"/>
              <a:ext cx="1187640" cy="10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Obraz 16" descr=""/>
            <p:cNvPicPr/>
            <p:nvPr/>
          </p:nvPicPr>
          <p:blipFill>
            <a:blip r:embed="rId11"/>
            <a:stretch/>
          </p:blipFill>
          <p:spPr>
            <a:xfrm>
              <a:off x="2729880" y="736920"/>
              <a:ext cx="1206720" cy="1020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250"/>
                            </p:stCondLst>
                            <p:childTnLst>
                              <p:par>
                                <p:cTn id="9" nodeType="afterEffect" fill="hold" presetClass="entr" presetID="2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59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8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81">
                                          <p:stCondLst>
                                            <p:cond delay="581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90">
                                          <p:stCondLst>
                                            <p:cond delay="115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44">
                                          <p:stCondLst>
                                            <p:cond delay="144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23" fill="hold">
                                          <p:stCondLst>
                                            <p:cond delay="56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145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3" fill="hold">
                                          <p:stCondLst>
                                            <p:cond delay="1148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145" fill="hold">
                                          <p:stCondLst>
                                            <p:cond delay="1171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3" fill="hold">
                                          <p:stCondLst>
                                            <p:cond delay="1437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145" fill="hold">
                                          <p:stCondLst>
                                            <p:cond delay="145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3" fill="hold">
                                          <p:stCondLst>
                                            <p:cond delay="1582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145" fill="hold">
                                          <p:stCondLst>
                                            <p:cond delay="1605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2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1280" y="5867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Tw Cen MT"/>
              </a:rPr>
              <a:t>ceny różnych towarów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pole tekstowe 3"/>
          <p:cNvSpPr/>
          <p:nvPr/>
        </p:nvSpPr>
        <p:spPr>
          <a:xfrm>
            <a:off x="611280" y="620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5f55"/>
                </a:solidFill>
                <a:latin typeface="Tw Cen MT"/>
              </a:rPr>
              <a:t>Za pomocą cyfr i liczb wyrażamy wiele informacji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1" name="Picture 4" descr="C:\Users\Ania\AppData\Local\Microsoft\Windows\Temporary Internet Files\Content.IE5\CXABBVED\MC900412326[1].wmf"/>
          <p:cNvPicPr/>
          <p:nvPr/>
        </p:nvPicPr>
        <p:blipFill>
          <a:blip r:embed="rId1"/>
          <a:stretch/>
        </p:blipFill>
        <p:spPr>
          <a:xfrm>
            <a:off x="635040" y="1916280"/>
            <a:ext cx="1920960" cy="1834920"/>
          </a:xfrm>
          <a:prstGeom prst="rect">
            <a:avLst/>
          </a:prstGeom>
          <a:ln w="0">
            <a:noFill/>
          </a:ln>
        </p:spPr>
      </p:pic>
      <p:sp>
        <p:nvSpPr>
          <p:cNvPr id="422" name="pole tekstowe 5"/>
          <p:cNvSpPr/>
          <p:nvPr/>
        </p:nvSpPr>
        <p:spPr>
          <a:xfrm>
            <a:off x="596520" y="3933720"/>
            <a:ext cx="14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Mikse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Cena 259 zł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3" name="Picture 5" descr="C:\Users\Ania\AppData\Local\Microsoft\Windows\Temporary Internet Files\Content.IE5\FZ4DAB55\MP900401195[1].jpg"/>
          <p:cNvPicPr/>
          <p:nvPr/>
        </p:nvPicPr>
        <p:blipFill>
          <a:blip r:embed="rId2"/>
          <a:stretch/>
        </p:blipFill>
        <p:spPr>
          <a:xfrm>
            <a:off x="5364000" y="2924280"/>
            <a:ext cx="1951200" cy="1562040"/>
          </a:xfrm>
          <a:prstGeom prst="rect">
            <a:avLst/>
          </a:prstGeom>
          <a:ln w="0">
            <a:noFill/>
          </a:ln>
        </p:spPr>
      </p:pic>
      <p:sp>
        <p:nvSpPr>
          <p:cNvPr id="424" name="pole tekstowe 10"/>
          <p:cNvSpPr/>
          <p:nvPr/>
        </p:nvSpPr>
        <p:spPr>
          <a:xfrm>
            <a:off x="7268400" y="2924280"/>
            <a:ext cx="192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Kredki woskow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Cena 2zł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5" name="Picture 6" descr="C:\Users\Ania\AppData\Local\Microsoft\Windows\Temporary Internet Files\Content.IE5\AKSHKWQ7\MP900400573[1].jpg"/>
          <p:cNvPicPr/>
          <p:nvPr/>
        </p:nvPicPr>
        <p:blipFill>
          <a:blip r:embed="rId3"/>
          <a:stretch/>
        </p:blipFill>
        <p:spPr>
          <a:xfrm>
            <a:off x="3038400" y="1741320"/>
            <a:ext cx="1608120" cy="2009880"/>
          </a:xfrm>
          <a:prstGeom prst="rect">
            <a:avLst/>
          </a:prstGeom>
          <a:ln w="0">
            <a:noFill/>
          </a:ln>
        </p:spPr>
      </p:pic>
      <p:sp>
        <p:nvSpPr>
          <p:cNvPr id="426" name="pole tekstowe 12"/>
          <p:cNvSpPr/>
          <p:nvPr/>
        </p:nvSpPr>
        <p:spPr>
          <a:xfrm>
            <a:off x="4567680" y="1741320"/>
            <a:ext cx="22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Makaron spaghetti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Cena 3zł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7" name="Picture 7" descr="C:\Users\Ania\AppData\Local\Microsoft\Windows\Temporary Internet Files\Content.IE5\SI614T7F\MC900312536[1].wmf"/>
          <p:cNvPicPr/>
          <p:nvPr/>
        </p:nvPicPr>
        <p:blipFill>
          <a:blip r:embed="rId4"/>
          <a:stretch/>
        </p:blipFill>
        <p:spPr>
          <a:xfrm>
            <a:off x="2435400" y="4149720"/>
            <a:ext cx="1811160" cy="1870200"/>
          </a:xfrm>
          <a:prstGeom prst="rect">
            <a:avLst/>
          </a:prstGeom>
          <a:ln w="0">
            <a:noFill/>
          </a:ln>
        </p:spPr>
      </p:pic>
      <p:sp>
        <p:nvSpPr>
          <p:cNvPr id="428" name="pole tekstowe 14"/>
          <p:cNvSpPr/>
          <p:nvPr/>
        </p:nvSpPr>
        <p:spPr>
          <a:xfrm>
            <a:off x="4386240" y="478008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Koszulk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Cena 79 zł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9" name="Picture 9" descr="C:\Users\Ania\AppData\Local\Microsoft\Windows\Temporary Internet Files\Content.IE5\SI614T7F\MC900113266[1].wmf"/>
          <p:cNvPicPr/>
          <p:nvPr/>
        </p:nvPicPr>
        <p:blipFill>
          <a:blip r:embed="rId5"/>
          <a:stretch/>
        </p:blipFill>
        <p:spPr>
          <a:xfrm>
            <a:off x="7786800" y="4789440"/>
            <a:ext cx="888840" cy="1629000"/>
          </a:xfrm>
          <a:prstGeom prst="rect">
            <a:avLst/>
          </a:prstGeom>
          <a:ln w="0">
            <a:noFill/>
          </a:ln>
        </p:spPr>
      </p:pic>
      <p:sp>
        <p:nvSpPr>
          <p:cNvPr id="430" name="pole tekstowe 17"/>
          <p:cNvSpPr/>
          <p:nvPr/>
        </p:nvSpPr>
        <p:spPr>
          <a:xfrm>
            <a:off x="6420960" y="4957920"/>
            <a:ext cx="14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Sukienk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Cena 128 zł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75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6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2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250"/>
                            </p:stCondLst>
                            <p:childTnLst>
                              <p:par>
                                <p:cTn id="4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3250"/>
                            </p:stCondLst>
                            <p:childTnLst>
                              <p:par>
                                <p:cTn id="440" nodeType="afterEffect" fill="hold" presetClass="entr" presetID="6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4500"/>
                            </p:stCondLst>
                            <p:childTnLst>
                              <p:par>
                                <p:cTn id="4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500"/>
                            </p:stCondLst>
                            <p:childTnLst>
                              <p:par>
                                <p:cTn id="450" nodeType="afterEffect" fill="hold" presetClass="entr" presetID="6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2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6750"/>
                            </p:stCondLst>
                            <p:childTnLst>
                              <p:par>
                                <p:cTn id="4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7750"/>
                            </p:stCondLst>
                            <p:childTnLst>
                              <p:par>
                                <p:cTn id="460" nodeType="afterEffect" fill="hold" presetClass="entr" presetID="6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2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9000"/>
                            </p:stCondLst>
                            <p:childTnLst>
                              <p:par>
                                <p:cTn id="4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0" nodeType="afterEffect" fill="hold" presetClass="entr" presetID="6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72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1250"/>
                            </p:stCondLst>
                            <p:childTnLst>
                              <p:par>
                                <p:cTn id="474" nodeType="after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480" nodeType="afterEffect" fill="hold" presetClass="entr" presetID="2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8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9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1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3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5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11280" y="594972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775f55"/>
                </a:solidFill>
                <a:latin typeface="Tw Cen MT"/>
              </a:rPr>
              <a:t>prędkość poruszających się pojazdów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2" name="pole tekstowe 4"/>
          <p:cNvSpPr/>
          <p:nvPr/>
        </p:nvSpPr>
        <p:spPr>
          <a:xfrm>
            <a:off x="611280" y="620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5f55"/>
                </a:solidFill>
                <a:latin typeface="Tw Cen MT"/>
              </a:rPr>
              <a:t>Za pomocą cyfr i liczb wyrażamy wiele informacji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3" name="Picture 3" descr="C:\Users\Ania\AppData\Local\Microsoft\Windows\Temporary Internet Files\Content.IE5\SI614T7F\MP900399388[1].jpg"/>
          <p:cNvPicPr/>
          <p:nvPr/>
        </p:nvPicPr>
        <p:blipFill>
          <a:blip r:embed="rId1"/>
          <a:stretch/>
        </p:blipFill>
        <p:spPr>
          <a:xfrm>
            <a:off x="395280" y="1706400"/>
            <a:ext cx="2725920" cy="18162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4" descr="C:\Users\Ania\AppData\Local\Microsoft\Windows\Temporary Internet Files\Content.IE5\CXABBVED\MP900427680[1].jpg"/>
          <p:cNvPicPr/>
          <p:nvPr/>
        </p:nvPicPr>
        <p:blipFill>
          <a:blip r:embed="rId2"/>
          <a:stretch/>
        </p:blipFill>
        <p:spPr>
          <a:xfrm>
            <a:off x="3300480" y="1695600"/>
            <a:ext cx="2604960" cy="18270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C:\Users\Ania\AppData\Local\Microsoft\Windows\Temporary Internet Files\Content.IE5\AKSHKWQ7\MP900401312[1].jpg"/>
          <p:cNvPicPr/>
          <p:nvPr/>
        </p:nvPicPr>
        <p:blipFill>
          <a:blip r:embed="rId3"/>
          <a:stretch/>
        </p:blipFill>
        <p:spPr>
          <a:xfrm>
            <a:off x="6084720" y="1695600"/>
            <a:ext cx="2741760" cy="18270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6" descr="C:\Users\Ania\AppData\Local\Microsoft\Windows\Temporary Internet Files\Content.IE5\FZ4DAB55\MP900399267[1].jpg"/>
          <p:cNvPicPr/>
          <p:nvPr/>
        </p:nvPicPr>
        <p:blipFill>
          <a:blip r:embed="rId4"/>
          <a:stretch/>
        </p:blipFill>
        <p:spPr>
          <a:xfrm>
            <a:off x="3300480" y="4149720"/>
            <a:ext cx="2604960" cy="1706400"/>
          </a:xfrm>
          <a:prstGeom prst="rect">
            <a:avLst/>
          </a:prstGeom>
          <a:ln w="0">
            <a:noFill/>
          </a:ln>
        </p:spPr>
      </p:pic>
      <p:sp>
        <p:nvSpPr>
          <p:cNvPr id="437" name="pole tekstowe 10"/>
          <p:cNvSpPr/>
          <p:nvPr/>
        </p:nvSpPr>
        <p:spPr>
          <a:xfrm>
            <a:off x="3123000" y="5856120"/>
            <a:ext cx="362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Prędkość 100 węzłów (185km/h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" name="pole tekstowe 11"/>
          <p:cNvSpPr/>
          <p:nvPr/>
        </p:nvSpPr>
        <p:spPr>
          <a:xfrm>
            <a:off x="195120" y="357660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Prędkość  315 km/h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ole tekstowe 12"/>
          <p:cNvSpPr/>
          <p:nvPr/>
        </p:nvSpPr>
        <p:spPr>
          <a:xfrm>
            <a:off x="2993040" y="3605040"/>
            <a:ext cx="35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Prędkość przelotowa  800 km/h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pole tekstowe 13"/>
          <p:cNvSpPr/>
          <p:nvPr/>
        </p:nvSpPr>
        <p:spPr>
          <a:xfrm>
            <a:off x="6658560" y="359568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Prędkość  200 km/h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2" dur="75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06" dur="175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750"/>
                            </p:stCondLst>
                            <p:childTnLst>
                              <p:par>
                                <p:cTn id="5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3750"/>
                            </p:stCondLst>
                            <p:childTnLst>
                              <p:par>
                                <p:cTn id="51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16" dur="175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500"/>
                            </p:stCondLst>
                            <p:childTnLst>
                              <p:par>
                                <p:cTn id="5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6500"/>
                            </p:stCondLst>
                            <p:childTnLst>
                              <p:par>
                                <p:cTn id="52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26" dur="175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8250"/>
                            </p:stCondLst>
                            <p:childTnLst>
                              <p:par>
                                <p:cTn id="5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9250"/>
                            </p:stCondLst>
                            <p:childTnLst>
                              <p:par>
                                <p:cTn id="53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36" dur="175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4" nodeType="afterEffect" fill="hold" presetClass="entr" presetID="2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2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3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5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7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9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11280" y="56610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Tw Cen MT"/>
              </a:rPr>
              <a:t>upływający czas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2" name="pole tekstowe 3"/>
          <p:cNvSpPr/>
          <p:nvPr/>
        </p:nvSpPr>
        <p:spPr>
          <a:xfrm>
            <a:off x="611280" y="620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5f55"/>
                </a:solidFill>
                <a:latin typeface="Tw Cen MT"/>
              </a:rPr>
              <a:t>Za pomocą cyfr i liczb wyrażamy wiele informacji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3" name="Picture 2" descr="C:\Users\Ania\AppData\Local\Microsoft\Windows\Temporary Internet Files\Content.IE5\CXABBVED\MP900430829[1].jpg"/>
          <p:cNvPicPr/>
          <p:nvPr/>
        </p:nvPicPr>
        <p:blipFill>
          <a:blip r:embed="rId1"/>
          <a:stretch/>
        </p:blipFill>
        <p:spPr>
          <a:xfrm>
            <a:off x="611280" y="1589040"/>
            <a:ext cx="4537080" cy="30164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" descr="C:\Users\Ania\AppData\Local\Microsoft\Windows\Temporary Internet Files\Content.IE5\AKSHKWQ7\MP900309636[1].jpg"/>
          <p:cNvPicPr/>
          <p:nvPr/>
        </p:nvPicPr>
        <p:blipFill>
          <a:blip r:embed="rId2"/>
          <a:stretch/>
        </p:blipFill>
        <p:spPr>
          <a:xfrm>
            <a:off x="5148360" y="3500280"/>
            <a:ext cx="3657600" cy="2610000"/>
          </a:xfrm>
          <a:prstGeom prst="rect">
            <a:avLst/>
          </a:prstGeom>
          <a:ln w="0">
            <a:noFill/>
          </a:ln>
        </p:spPr>
      </p:pic>
      <p:pic>
        <p:nvPicPr>
          <p:cNvPr id="445" name="pole tekstowe 9" descr=""/>
          <p:cNvPicPr/>
          <p:nvPr/>
        </p:nvPicPr>
        <p:blipFill>
          <a:blip r:embed="rId3"/>
          <a:stretch/>
        </p:blipFill>
        <p:spPr>
          <a:xfrm>
            <a:off x="560520" y="4694400"/>
            <a:ext cx="3981240" cy="811080"/>
          </a:xfrm>
          <a:prstGeom prst="rect">
            <a:avLst/>
          </a:prstGeom>
          <a:ln w="0">
            <a:noFill/>
          </a:ln>
        </p:spPr>
      </p:pic>
      <p:sp>
        <p:nvSpPr>
          <p:cNvPr id="446" name="pole tekstowe 10"/>
          <p:cNvSpPr/>
          <p:nvPr/>
        </p:nvSpPr>
        <p:spPr>
          <a:xfrm>
            <a:off x="6251040" y="2774880"/>
            <a:ext cx="254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15 kwietnia 1999 roku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75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750"/>
                            </p:stCondLst>
                            <p:childTnLst>
                              <p:par>
                                <p:cTn id="568" nodeType="afterEffect" fill="hold" presetClass="entr" presetID="6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70" dur="1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500"/>
                            </p:stCondLst>
                            <p:childTnLst>
                              <p:par>
                                <p:cTn id="572" nodeType="after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81" dur="1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75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250"/>
                            </p:stCondLst>
                            <p:childTnLst>
                              <p:par>
                                <p:cTn id="587" nodeType="afterEffect" fill="hold" presetClass="entr" presetID="2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59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8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81">
                                          <p:stCondLst>
                                            <p:cond delay="581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90">
                                          <p:stCondLst>
                                            <p:cond delay="115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44">
                                          <p:stCondLst>
                                            <p:cond delay="144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5" dur="23" fill="hold">
                                          <p:stCondLst>
                                            <p:cond delay="56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6" dur="145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3" fill="hold">
                                          <p:stCondLst>
                                            <p:cond delay="1148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8" dur="145" fill="hold">
                                          <p:stCondLst>
                                            <p:cond delay="1171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3" fill="hold">
                                          <p:stCondLst>
                                            <p:cond delay="1437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0" dur="145" fill="hold">
                                          <p:stCondLst>
                                            <p:cond delay="145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3" fill="hold">
                                          <p:stCondLst>
                                            <p:cond delay="1582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2" dur="145" fill="hold">
                                          <p:stCondLst>
                                            <p:cond delay="1605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360" y="228600"/>
            <a:ext cx="748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775f55"/>
                </a:solidFill>
                <a:latin typeface="Tw Cen MT"/>
              </a:rPr>
              <a:t>Zapis liczb w starożytnym Egipci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w Cen MT"/>
              </a:rPr>
              <a:t>Egipcjanie korzystali z systemu dziesiętnego, a liczby zapisywali przy użyciu </a:t>
            </a:r>
            <a:r>
              <a:rPr b="1" lang="pl-PL" sz="1600" spc="-1" strike="noStrike">
                <a:solidFill>
                  <a:srgbClr val="000000"/>
                </a:solidFill>
                <a:latin typeface="Tw Cen MT"/>
              </a:rPr>
              <a:t>hieroglifów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w Cen MT"/>
              </a:rPr>
              <a:t>Cyfra 1</a:t>
            </a:r>
            <a:r>
              <a:rPr b="0" lang="pl-PL" sz="1200" spc="-1" strike="noStrike">
                <a:solidFill>
                  <a:srgbClr val="000000"/>
                </a:solidFill>
                <a:latin typeface="Tw Cen MT"/>
              </a:rPr>
              <a:t> – znak przedstawiający tyczkę do mierzenia (kreska). Używając pionowej kreski zapisywano liczby od 1 do 9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w Cen MT"/>
              </a:rPr>
              <a:t>Cyfra 10</a:t>
            </a:r>
            <a:r>
              <a:rPr b="0" lang="pl-PL" sz="1200" spc="-1" strike="noStrike">
                <a:solidFill>
                  <a:srgbClr val="000000"/>
                </a:solidFill>
                <a:latin typeface="Tw Cen MT"/>
              </a:rPr>
              <a:t> – znak przedstawiający kości pięty. Wygląda jak odwrócona wielka litera U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w Cen MT"/>
              </a:rPr>
              <a:t>Cyfra 100</a:t>
            </a:r>
            <a:r>
              <a:rPr b="0" lang="pl-PL" sz="1200" spc="-1" strike="noStrike">
                <a:solidFill>
                  <a:srgbClr val="000000"/>
                </a:solidFill>
                <a:latin typeface="Tw Cen MT"/>
              </a:rPr>
              <a:t> – znak przedstawiający zwiniętą linię bądź laskę kapłańską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w Cen MT"/>
              </a:rPr>
              <a:t>Cyfra 1000</a:t>
            </a:r>
            <a:r>
              <a:rPr b="0" lang="pl-PL" sz="1200" spc="-1" strike="noStrike">
                <a:solidFill>
                  <a:srgbClr val="000000"/>
                </a:solidFill>
                <a:latin typeface="Tw Cen MT"/>
              </a:rPr>
              <a:t> – przedstawiała pęd lotosu symbolizujący Nil – rzekę życia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w Cen MT"/>
              </a:rPr>
              <a:t>Cyfra 10000</a:t>
            </a:r>
            <a:r>
              <a:rPr b="0" lang="pl-PL" sz="1200" spc="-1" strike="noStrike">
                <a:solidFill>
                  <a:srgbClr val="000000"/>
                </a:solidFill>
                <a:latin typeface="Tw Cen MT"/>
              </a:rPr>
              <a:t> – oznaczona była palcem wskazującym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w Cen MT"/>
              </a:rPr>
              <a:t>Cyfra 100000</a:t>
            </a:r>
            <a:r>
              <a:rPr b="0" lang="pl-PL" sz="1200" spc="-1" strike="noStrike">
                <a:solidFill>
                  <a:srgbClr val="000000"/>
                </a:solidFill>
                <a:latin typeface="Tw Cen MT"/>
              </a:rPr>
              <a:t> – przedstawiała żabę. Była to dla Egipcjan tak ogromna liczba, jak liczba żab w błotach Nilu po jego wylewach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w Cen MT"/>
              </a:rPr>
              <a:t>Cyfra 1000000</a:t>
            </a:r>
            <a:r>
              <a:rPr b="0" lang="pl-PL" sz="1200" spc="-1" strike="noStrike">
                <a:solidFill>
                  <a:srgbClr val="000000"/>
                </a:solidFill>
                <a:latin typeface="Tw Cen MT"/>
              </a:rPr>
              <a:t> – liczba niewyobrażalna dla starożytnych. Znak przedstawia mężczyznę z podniesionymi do góry rękoma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w Cen MT"/>
              </a:rPr>
              <a:t>Ciekawa strona – </a:t>
            </a:r>
            <a:r>
              <a:rPr b="0" lang="pl-PL" sz="12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pisanie hieroglifami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9" name="Obraz 5" descr=""/>
          <p:cNvPicPr/>
          <p:nvPr/>
        </p:nvPicPr>
        <p:blipFill>
          <a:blip r:embed="rId2"/>
          <a:stretch/>
        </p:blipFill>
        <p:spPr>
          <a:xfrm>
            <a:off x="1582560" y="3860640"/>
            <a:ext cx="5953320" cy="1543320"/>
          </a:xfrm>
          <a:prstGeom prst="rect">
            <a:avLst/>
          </a:prstGeom>
          <a:ln w="0">
            <a:noFill/>
          </a:ln>
        </p:spPr>
      </p:pic>
      <p:pic>
        <p:nvPicPr>
          <p:cNvPr id="370" name="Obraz 6" descr=""/>
          <p:cNvPicPr/>
          <p:nvPr/>
        </p:nvPicPr>
        <p:blipFill>
          <a:blip r:embed="rId3"/>
          <a:stretch/>
        </p:blipFill>
        <p:spPr>
          <a:xfrm>
            <a:off x="3911760" y="6021360"/>
            <a:ext cx="1295280" cy="581040"/>
          </a:xfrm>
          <a:prstGeom prst="rect">
            <a:avLst/>
          </a:prstGeom>
          <a:ln w="0">
            <a:noFill/>
          </a:ln>
        </p:spPr>
      </p:pic>
      <p:sp>
        <p:nvSpPr>
          <p:cNvPr id="371" name="pole tekstowe 7"/>
          <p:cNvSpPr/>
          <p:nvPr/>
        </p:nvSpPr>
        <p:spPr>
          <a:xfrm rot="20785200">
            <a:off x="5046480" y="591948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68c8c"/>
                </a:solidFill>
                <a:latin typeface="Tw Cen MT"/>
              </a:rPr>
              <a:t>Jaka to liczba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2" name="Obraz 8" descr=""/>
          <p:cNvPicPr/>
          <p:nvPr/>
        </p:nvPicPr>
        <p:blipFill>
          <a:blip r:embed="rId4"/>
          <a:stretch/>
        </p:blipFill>
        <p:spPr>
          <a:xfrm>
            <a:off x="7667640" y="-12600"/>
            <a:ext cx="151272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75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75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250"/>
                            </p:stCondLst>
                            <p:childTnLst>
                              <p:par>
                                <p:cTn id="5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75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75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75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75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75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75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750"/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75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750"/>
                                        <p:tgtEl>
                                          <p:spTgt spid="3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4" dur="1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75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Tw Cen MT"/>
              </a:rPr>
              <a:t>Zapis liczb w systemie babiloński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System babiloński pochodzi z Mezopotamii, znany około 5000 lat temu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Babilończycy pisali pismem klinowym, a korzystali z systemu liczbowego o podstawie 60.</a:t>
            </a:r>
            <a:br>
              <a:rPr sz="2400"/>
            </a:br>
            <a:r>
              <a:rPr b="0" lang="pl-PL" sz="2400" spc="-1" strike="noStrike">
                <a:solidFill>
                  <a:srgbClr val="dd8047"/>
                </a:solidFill>
                <a:latin typeface="Tw Cen MT"/>
              </a:rPr>
              <a:t>Do dzisiaj dzielimy godziny na sześćdziesiąt minut, minuty na sześćdziesiąt sekund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5" name="Obraz 3" descr=""/>
          <p:cNvPicPr/>
          <p:nvPr/>
        </p:nvPicPr>
        <p:blipFill>
          <a:blip r:embed="rId1"/>
          <a:stretch/>
        </p:blipFill>
        <p:spPr>
          <a:xfrm>
            <a:off x="3780000" y="3789360"/>
            <a:ext cx="4476600" cy="2657520"/>
          </a:xfrm>
          <a:prstGeom prst="rect">
            <a:avLst/>
          </a:prstGeom>
          <a:ln w="0">
            <a:noFill/>
          </a:ln>
        </p:spPr>
      </p:pic>
      <p:pic>
        <p:nvPicPr>
          <p:cNvPr id="376" name="Obraz 4" descr=""/>
          <p:cNvPicPr/>
          <p:nvPr/>
        </p:nvPicPr>
        <p:blipFill>
          <a:blip r:embed="rId2"/>
          <a:stretch/>
        </p:blipFill>
        <p:spPr>
          <a:xfrm>
            <a:off x="1042920" y="4068720"/>
            <a:ext cx="253692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75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75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75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375" autoRev="1" fill="hold"/>
                                        <p:tgtEl>
                                          <p:spTgt spid="3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Tw Cen MT"/>
              </a:rPr>
              <a:t>Zapis liczb w systemie grecki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360" y="1600200"/>
            <a:ext cx="4606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Z używanych przez Greków systemów zapisywania liczb dwa zyskały szerszą popularność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System </a:t>
            </a:r>
            <a:r>
              <a:rPr b="1" lang="pl-PL" sz="1800" spc="-1" strike="noStrike">
                <a:solidFill>
                  <a:srgbClr val="000000"/>
                </a:solidFill>
                <a:latin typeface="Tw Cen MT"/>
              </a:rPr>
              <a:t>attycki</a:t>
            </a: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, bardzo podobny do późniejszego rzymskiego. Był to system addytywny o bazie dziesięć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System </a:t>
            </a:r>
            <a:r>
              <a:rPr b="1" lang="pl-PL" sz="1800" spc="-1" strike="noStrike">
                <a:solidFill>
                  <a:srgbClr val="000000"/>
                </a:solidFill>
                <a:latin typeface="Tw Cen MT"/>
              </a:rPr>
              <a:t>joński</a:t>
            </a: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, który polegał na wykorzystaniu kolejnych liter alfabetu jako cyfr, na przyporządkowaniu każdej literze alfabetu greckiego jednej cyfry. 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9" name="Obraz 4" descr=""/>
          <p:cNvPicPr/>
          <p:nvPr/>
        </p:nvPicPr>
        <p:blipFill>
          <a:blip r:embed="rId1"/>
          <a:stretch/>
        </p:blipFill>
        <p:spPr>
          <a:xfrm>
            <a:off x="4859280" y="2098800"/>
            <a:ext cx="3095640" cy="1638000"/>
          </a:xfrm>
          <a:prstGeom prst="rect">
            <a:avLst/>
          </a:prstGeom>
          <a:ln w="0">
            <a:noFill/>
          </a:ln>
        </p:spPr>
      </p:pic>
      <p:pic>
        <p:nvPicPr>
          <p:cNvPr id="380" name="Obraz 5" descr=""/>
          <p:cNvPicPr/>
          <p:nvPr/>
        </p:nvPicPr>
        <p:blipFill>
          <a:blip r:embed="rId2"/>
          <a:stretch/>
        </p:blipFill>
        <p:spPr>
          <a:xfrm>
            <a:off x="4788000" y="3933720"/>
            <a:ext cx="4284720" cy="2853000"/>
          </a:xfrm>
          <a:prstGeom prst="rect">
            <a:avLst/>
          </a:prstGeom>
          <a:ln w="0">
            <a:noFill/>
          </a:ln>
        </p:spPr>
      </p:pic>
      <p:pic>
        <p:nvPicPr>
          <p:cNvPr id="381" name="Obraz 6" descr=""/>
          <p:cNvPicPr/>
          <p:nvPr/>
        </p:nvPicPr>
        <p:blipFill>
          <a:blip r:embed="rId3"/>
          <a:stretch/>
        </p:blipFill>
        <p:spPr>
          <a:xfrm>
            <a:off x="7451640" y="-27000"/>
            <a:ext cx="16527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75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75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75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75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75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75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3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75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75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4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Tw Cen MT"/>
              </a:rPr>
              <a:t>Zapis liczb w systemie Majów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52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lnSpc>
                <a:spcPct val="15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Majowie to indiańskie plemię, które zamieszkiwało południowo-wschodnią część Meksyku, Gwatemalę i część Hondurasu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15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Majowie </a:t>
            </a:r>
            <a:r>
              <a:rPr b="1" lang="pl-PL" sz="1800" spc="-1" strike="noStrike">
                <a:solidFill>
                  <a:srgbClr val="000000"/>
                </a:solidFill>
                <a:latin typeface="Tw Cen MT"/>
              </a:rPr>
              <a:t>wprowadzili pojęcie zera</a:t>
            </a: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. Opracowali również własny kalendarz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Stworzyli system dwudziestkowy, który opierał się na trzech symbolach: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15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70c0"/>
                </a:solidFill>
                <a:latin typeface="Tw Cen MT"/>
              </a:rPr>
              <a:t>kropka</a:t>
            </a: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1" lang="pl-PL" sz="1800" spc="-1" strike="noStrike">
                <a:solidFill>
                  <a:srgbClr val="7030a0"/>
                </a:solidFill>
                <a:latin typeface="Tw Cen MT"/>
              </a:rPr>
              <a:t>kreska</a:t>
            </a:r>
            <a:r>
              <a:rPr b="0" lang="pl-PL" sz="1800" spc="-1" strike="noStrike">
                <a:solidFill>
                  <a:srgbClr val="7030a0"/>
                </a:solidFill>
                <a:latin typeface="Tw Cen MT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i </a:t>
            </a:r>
            <a:r>
              <a:rPr b="1" lang="pl-PL" sz="1800" spc="-1" strike="noStrike">
                <a:solidFill>
                  <a:srgbClr val="00b050"/>
                </a:solidFill>
                <a:latin typeface="Tw Cen MT"/>
              </a:rPr>
              <a:t>muszla</a:t>
            </a: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lnSpc>
                <a:spcPct val="15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w Cen MT"/>
              </a:rPr>
              <a:t>Znak </a:t>
            </a:r>
            <a:r>
              <a:rPr b="1" lang="pl-PL" sz="1500" spc="-1" strike="noStrike">
                <a:solidFill>
                  <a:srgbClr val="0070c0"/>
                </a:solidFill>
                <a:latin typeface="Tw Cen MT"/>
              </a:rPr>
              <a:t>kropki</a:t>
            </a:r>
            <a:r>
              <a:rPr b="0" lang="pl-PL" sz="1500" spc="-1" strike="noStrike">
                <a:solidFill>
                  <a:srgbClr val="000000"/>
                </a:solidFill>
                <a:latin typeface="Tw Cen MT"/>
              </a:rPr>
              <a:t> oznaczał </a:t>
            </a:r>
            <a:r>
              <a:rPr b="1" lang="pl-PL" sz="1500" spc="-1" strike="noStrike">
                <a:solidFill>
                  <a:srgbClr val="0070c0"/>
                </a:solidFill>
                <a:latin typeface="Tw Cen MT"/>
              </a:rPr>
              <a:t>jednostkę</a:t>
            </a:r>
            <a:r>
              <a:rPr b="0" lang="pl-PL" sz="15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lnSpc>
                <a:spcPct val="15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7030a0"/>
                </a:solidFill>
                <a:latin typeface="Tw Cen MT"/>
              </a:rPr>
              <a:t>Pozioma kreska </a:t>
            </a:r>
            <a:r>
              <a:rPr b="0" lang="pl-PL" sz="1500" spc="-1" strike="noStrike">
                <a:solidFill>
                  <a:srgbClr val="000000"/>
                </a:solidFill>
                <a:latin typeface="Tw Cen MT"/>
              </a:rPr>
              <a:t>oznaczała </a:t>
            </a:r>
            <a:r>
              <a:rPr b="1" lang="pl-PL" sz="1500" spc="-1" strike="noStrike">
                <a:solidFill>
                  <a:srgbClr val="7030a0"/>
                </a:solidFill>
                <a:latin typeface="Tw Cen MT"/>
              </a:rPr>
              <a:t>piątkę</a:t>
            </a:r>
            <a:r>
              <a:rPr b="0" lang="pl-PL" sz="15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lnSpc>
                <a:spcPct val="15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b050"/>
                </a:solidFill>
                <a:latin typeface="Tw Cen MT"/>
              </a:rPr>
              <a:t>Muszla</a:t>
            </a:r>
            <a:r>
              <a:rPr b="0" lang="pl-PL" sz="1500" spc="-1" strike="noStrike">
                <a:solidFill>
                  <a:srgbClr val="00b050"/>
                </a:solidFill>
                <a:latin typeface="Tw Cen MT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Tw Cen MT"/>
              </a:rPr>
              <a:t>oznaczała </a:t>
            </a:r>
            <a:r>
              <a:rPr b="1" lang="pl-PL" sz="1500" spc="-1" strike="noStrike">
                <a:solidFill>
                  <a:srgbClr val="00b050"/>
                </a:solidFill>
                <a:latin typeface="Tw Cen MT"/>
              </a:rPr>
              <a:t>zero</a:t>
            </a:r>
            <a:r>
              <a:rPr b="0" lang="pl-PL" sz="15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15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Liczby zapisywano w postaci kombinacji kropek i kresek.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Odpowiednio pogrupowane stanowiły podstawowy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zestaw cyfr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4" name="Obraz 4" descr=""/>
          <p:cNvPicPr/>
          <p:nvPr/>
        </p:nvPicPr>
        <p:blipFill>
          <a:blip r:embed="rId1"/>
          <a:stretch/>
        </p:blipFill>
        <p:spPr>
          <a:xfrm>
            <a:off x="7596360" y="115920"/>
            <a:ext cx="1387440" cy="1204920"/>
          </a:xfrm>
          <a:prstGeom prst="rect">
            <a:avLst/>
          </a:prstGeom>
          <a:ln w="0">
            <a:noFill/>
          </a:ln>
        </p:spPr>
      </p:pic>
      <p:pic>
        <p:nvPicPr>
          <p:cNvPr id="385" name="Obraz 5" descr=""/>
          <p:cNvPicPr/>
          <p:nvPr/>
        </p:nvPicPr>
        <p:blipFill>
          <a:blip r:embed="rId2"/>
          <a:stretch/>
        </p:blipFill>
        <p:spPr>
          <a:xfrm>
            <a:off x="6588000" y="3789360"/>
            <a:ext cx="2232000" cy="2573280"/>
          </a:xfrm>
          <a:prstGeom prst="rect">
            <a:avLst/>
          </a:prstGeom>
          <a:ln w="0">
            <a:noFill/>
          </a:ln>
        </p:spPr>
      </p:pic>
      <p:sp>
        <p:nvSpPr>
          <p:cNvPr id="386" name="Strzałka w dół 3"/>
          <p:cNvSpPr/>
          <p:nvPr/>
        </p:nvSpPr>
        <p:spPr>
          <a:xfrm>
            <a:off x="7164360" y="3573360"/>
            <a:ext cx="287280" cy="4320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7" name="Strzałka w dół 6"/>
          <p:cNvSpPr/>
          <p:nvPr/>
        </p:nvSpPr>
        <p:spPr>
          <a:xfrm>
            <a:off x="6732720" y="4365720"/>
            <a:ext cx="287280" cy="43164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Strzałka w dół 7"/>
          <p:cNvSpPr/>
          <p:nvPr/>
        </p:nvSpPr>
        <p:spPr>
          <a:xfrm>
            <a:off x="6732720" y="3573360"/>
            <a:ext cx="287280" cy="4320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75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750"/>
                            </p:stCondLst>
                            <p:childTnLst>
                              <p:par>
                                <p:cTn id="1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8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75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75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1" dur="1" fill="hold">
                                    <p:stCondLst>
                                      <p:cond evt="end">
                                        <p:tn val="238"/>
                                      </p:cond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25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75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5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0" dur="1" fill="hold">
                                    <p:stCondLst>
                                      <p:cond evt="end">
                                        <p:tn val="247"/>
                                      </p:cond>
                                    </p:stCondLst>
                                  </p:cTn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775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75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875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9" dur="1" fill="hold">
                                    <p:stCondLst>
                                      <p:cond evt="end">
                                        <p:tn val="256"/>
                                      </p:cond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750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Tw Cen MT"/>
              </a:rPr>
              <a:t>Zapis liczb w systemie arabski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539280" y="1599840"/>
            <a:ext cx="837252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Cyfry arabskie to znane nam: </a:t>
            </a:r>
            <a:r>
              <a:rPr b="1" lang="pl-PL" sz="2400" spc="-1" strike="noStrike">
                <a:solidFill>
                  <a:srgbClr val="000000"/>
                </a:solidFill>
                <a:latin typeface="Tw Cen MT"/>
              </a:rPr>
              <a:t>0, 1, 2, 3, 4, 5, 6, 7, 8, 9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Rok 2013 = 2 · 1000 + 0 · 100 + 1 · 10 + 2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System arabski wywodzi się od cyfr indyjskich, które do Europy przywieźli Arabowie stąd ich nazwa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Pierwszym zastosowaniem liczb arabskich było nie zapisywanie liczb piórem, tylko umieszczanie ich na żetonach służących do wykonywania rachunku na liczydłach, tzw. </a:t>
            </a:r>
            <a:r>
              <a:rPr b="1" lang="pl-PL" sz="2400" spc="-1" strike="noStrike">
                <a:solidFill>
                  <a:srgbClr val="000000"/>
                </a:solidFill>
                <a:latin typeface="Tw Cen MT"/>
              </a:rPr>
              <a:t>abakach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1" name="Picture 3" descr="C:\Users\Ania\AppData\Local\Microsoft\Windows\Temporary Internet Files\Content.IE5\AKSHKWQ7\MC900432271[1].wmf"/>
          <p:cNvPicPr/>
          <p:nvPr/>
        </p:nvPicPr>
        <p:blipFill>
          <a:blip r:embed="rId1"/>
          <a:stretch/>
        </p:blipFill>
        <p:spPr>
          <a:xfrm>
            <a:off x="7236000" y="4941720"/>
            <a:ext cx="18270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75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750"/>
                            </p:stCondLst>
                            <p:childTnLst>
                              <p:par>
                                <p:cTn id="2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750"/>
                            </p:stCondLst>
                            <p:childTnLst>
                              <p:par>
                                <p:cTn id="290" nodeType="afterEffect" fill="hold" presetClass="entr" presetID="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2" presetSubtype="4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0" nodeType="afterEffect" fill="hold" presetClass="entr" presetID="2" presetSubtype="4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000"/>
                            </p:stCondLst>
                            <p:childTnLst>
                              <p:par>
                                <p:cTn id="305" nodeType="afterEffect" fill="hold" presetClass="entr" presetID="2" presetSubtype="4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924000" y="2276640"/>
            <a:ext cx="482436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775f55"/>
                </a:solidFill>
                <a:latin typeface="Tw Cen MT"/>
              </a:rPr>
              <a:t>Maja</a:t>
            </a:r>
            <a:br>
              <a:rPr sz="4000"/>
            </a:br>
            <a:r>
              <a:rPr b="0" lang="pl-PL" sz="4000" spc="-1" strike="noStrike">
                <a:solidFill>
                  <a:srgbClr val="775f55"/>
                </a:solidFill>
                <a:latin typeface="Tw Cen MT"/>
              </a:rPr>
              <a:t>urodzona 15.08.2001 </a:t>
            </a:r>
            <a:br>
              <a:rPr sz="4000"/>
            </a:br>
            <a:r>
              <a:rPr b="0" lang="pl-PL" sz="4000" spc="-1" strike="noStrike">
                <a:solidFill>
                  <a:srgbClr val="775f55"/>
                </a:solidFill>
                <a:latin typeface="Tw Cen MT"/>
              </a:rPr>
              <a:t>godz. 14:50 </a:t>
            </a:r>
            <a:br>
              <a:rPr sz="4000"/>
            </a:br>
            <a:r>
              <a:rPr b="0" lang="pl-PL" sz="4000" spc="-1" strike="noStrike">
                <a:solidFill>
                  <a:srgbClr val="775f55"/>
                </a:solidFill>
                <a:latin typeface="Tw Cen MT"/>
              </a:rPr>
              <a:t>54 cm  3300g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93" name="Picture 2" descr="C:\Users\Ania\AppData\Local\Microsoft\Windows\Temporary Internet Files\Content.IE5\AKSHKWQ7\MP900448395[1].jpg"/>
          <p:cNvPicPr/>
          <p:nvPr/>
        </p:nvPicPr>
        <p:blipFill>
          <a:blip r:embed="rId1"/>
          <a:stretch/>
        </p:blipFill>
        <p:spPr>
          <a:xfrm>
            <a:off x="611280" y="1773360"/>
            <a:ext cx="2997000" cy="4495680"/>
          </a:xfrm>
          <a:prstGeom prst="rect">
            <a:avLst/>
          </a:prstGeom>
          <a:ln w="0">
            <a:noFill/>
          </a:ln>
        </p:spPr>
      </p:pic>
      <p:sp>
        <p:nvSpPr>
          <p:cNvPr id="394" name="pole tekstowe 3"/>
          <p:cNvSpPr/>
          <p:nvPr/>
        </p:nvSpPr>
        <p:spPr>
          <a:xfrm>
            <a:off x="611280" y="620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5f55"/>
                </a:solidFill>
                <a:latin typeface="Tw Cen MT"/>
              </a:rPr>
              <a:t>Za pomocą cyfr i liczb wyrażamy wiele informacji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75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9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040" y="5732280"/>
            <a:ext cx="8153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775f55"/>
                </a:solidFill>
                <a:latin typeface="Tw Cen MT"/>
              </a:rPr>
              <a:t>Wysokość gór, głębokość jezior i mórz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6" name="Prostokąt 8"/>
          <p:cNvSpPr/>
          <p:nvPr/>
        </p:nvSpPr>
        <p:spPr>
          <a:xfrm>
            <a:off x="108000" y="1773360"/>
            <a:ext cx="2820960" cy="3456000"/>
          </a:xfrm>
          <a:prstGeom prst="rect">
            <a:avLst/>
          </a:prstGeom>
          <a:solidFill>
            <a:srgbClr val="ffffff">
              <a:alpha val="40000"/>
            </a:srgbClr>
          </a:solidFill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397" name="Prostokąt 9"/>
          <p:cNvGrpSpPr/>
          <p:nvPr/>
        </p:nvGrpSpPr>
        <p:grpSpPr>
          <a:xfrm>
            <a:off x="244440" y="1938240"/>
            <a:ext cx="2559240" cy="2262240"/>
            <a:chOff x="244440" y="1938240"/>
            <a:chExt cx="2559240" cy="2262240"/>
          </a:xfrm>
        </p:grpSpPr>
        <p:pic>
          <p:nvPicPr>
            <p:cNvPr id="398" name="Prostokąt 9" descr=""/>
            <p:cNvPicPr/>
            <p:nvPr/>
          </p:nvPicPr>
          <p:blipFill>
            <a:blip r:embed="rId1"/>
            <a:stretch/>
          </p:blipFill>
          <p:spPr>
            <a:xfrm>
              <a:off x="244440" y="1938240"/>
              <a:ext cx="255924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250920" y="1943280"/>
              <a:ext cx="2539800" cy="22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400" name="Dowolny kształt 10"/>
          <p:cNvSpPr/>
          <p:nvPr/>
        </p:nvSpPr>
        <p:spPr>
          <a:xfrm>
            <a:off x="227160" y="4210200"/>
            <a:ext cx="2538360" cy="933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640" rIns="125640" tIns="125640" bIns="12564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1467000"/>
                <a:tab algn="l" pos="2933640"/>
                <a:tab algn="l" pos="4400640"/>
                <a:tab algn="l" pos="5867280"/>
                <a:tab algn="l" pos="7334280"/>
                <a:tab algn="l" pos="8801280"/>
                <a:tab algn="l" pos="1026792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Jezioro Śniardwy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23,4 m głębokości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01" name="Grupa 33"/>
          <p:cNvGrpSpPr/>
          <p:nvPr/>
        </p:nvGrpSpPr>
        <p:grpSpPr>
          <a:xfrm>
            <a:off x="3052800" y="1778040"/>
            <a:ext cx="3062160" cy="3451320"/>
            <a:chOff x="3052800" y="1778040"/>
            <a:chExt cx="3062160" cy="3451320"/>
          </a:xfrm>
        </p:grpSpPr>
        <p:sp>
          <p:nvSpPr>
            <p:cNvPr id="402" name="Prostokąt 34"/>
            <p:cNvSpPr/>
            <p:nvPr/>
          </p:nvSpPr>
          <p:spPr>
            <a:xfrm>
              <a:off x="3052800" y="1778040"/>
              <a:ext cx="3062160" cy="34513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10080">
              <a:solidFill>
                <a:srgbClr val="94b6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03" name="Dowolny kształt 36"/>
            <p:cNvSpPr/>
            <p:nvPr/>
          </p:nvSpPr>
          <p:spPr>
            <a:xfrm>
              <a:off x="3182040" y="4212720"/>
              <a:ext cx="2756160" cy="931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5640" rIns="125640" tIns="125640" bIns="12564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467000"/>
                  <a:tab algn="l" pos="2933640"/>
                  <a:tab algn="l" pos="4400640"/>
                  <a:tab algn="l" pos="5867280"/>
                  <a:tab algn="l" pos="7334280"/>
                  <a:tab algn="l" pos="8801280"/>
                  <a:tab algn="l" pos="1026792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w Cen MT"/>
                </a:rPr>
                <a:t>Najwyższy szczyt w Tatrach - Gerlach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w Cen MT"/>
                </a:rPr>
                <a:t>2655 m wysokości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pic>
        <p:nvPicPr>
          <p:cNvPr id="404" name="Obraz 11" descr=""/>
          <p:cNvPicPr/>
          <p:nvPr/>
        </p:nvPicPr>
        <p:blipFill>
          <a:blip r:embed="rId2"/>
          <a:stretch/>
        </p:blipFill>
        <p:spPr>
          <a:xfrm>
            <a:off x="3160800" y="1938240"/>
            <a:ext cx="2851200" cy="2138400"/>
          </a:xfrm>
          <a:prstGeom prst="rect">
            <a:avLst/>
          </a:prstGeom>
          <a:ln w="0">
            <a:noFill/>
          </a:ln>
        </p:spPr>
      </p:pic>
      <p:sp>
        <p:nvSpPr>
          <p:cNvPr id="405" name="Prostokąt 3"/>
          <p:cNvSpPr/>
          <p:nvPr/>
        </p:nvSpPr>
        <p:spPr>
          <a:xfrm>
            <a:off x="6227640" y="1773360"/>
            <a:ext cx="2806920" cy="3452760"/>
          </a:xfrm>
          <a:prstGeom prst="rect">
            <a:avLst/>
          </a:prstGeom>
          <a:solidFill>
            <a:srgbClr val="ffffff">
              <a:alpha val="40000"/>
            </a:srgbClr>
          </a:solidFill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06" name="Prostokąt 4"/>
          <p:cNvGrpSpPr/>
          <p:nvPr/>
        </p:nvGrpSpPr>
        <p:grpSpPr>
          <a:xfrm>
            <a:off x="6364440" y="1908000"/>
            <a:ext cx="2541600" cy="2163960"/>
            <a:chOff x="6364440" y="1908000"/>
            <a:chExt cx="2541600" cy="2163960"/>
          </a:xfrm>
        </p:grpSpPr>
        <p:pic>
          <p:nvPicPr>
            <p:cNvPr id="407" name="Prostokąt 4" descr=""/>
            <p:cNvPicPr/>
            <p:nvPr/>
          </p:nvPicPr>
          <p:blipFill>
            <a:blip r:embed="rId3"/>
            <a:stretch/>
          </p:blipFill>
          <p:spPr>
            <a:xfrm>
              <a:off x="6364440" y="1908000"/>
              <a:ext cx="2541600" cy="21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6369120" y="1916280"/>
              <a:ext cx="2525760" cy="21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409" name="Dowolny kształt 5"/>
          <p:cNvSpPr/>
          <p:nvPr/>
        </p:nvSpPr>
        <p:spPr>
          <a:xfrm>
            <a:off x="6369120" y="4127400"/>
            <a:ext cx="2525760" cy="892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60840" bIns="60840" anchor="ctr">
            <a:noAutofit/>
          </a:bodyPr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w Cen MT"/>
              </a:rPr>
              <a:t>Morze Bałtycki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w Cen MT"/>
              </a:rPr>
              <a:t>Średnia głębokość 52,3 m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w Cen MT"/>
              </a:rPr>
              <a:t>Największa głębia 459 m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pole tekstowe 47"/>
          <p:cNvSpPr/>
          <p:nvPr/>
        </p:nvSpPr>
        <p:spPr>
          <a:xfrm>
            <a:off x="611280" y="620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5f55"/>
                </a:solidFill>
                <a:latin typeface="Tw Cen MT"/>
              </a:rPr>
              <a:t>Za pomocą cyfr i liczb wyrażamy wiele informacji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75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75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75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6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8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75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6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0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75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75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750"/>
                            </p:stCondLst>
                            <p:childTnLst>
                              <p:par>
                                <p:cTn id="36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2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750"/>
                            </p:stCondLst>
                            <p:childTnLst>
                              <p:par>
                                <p:cTn id="364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75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75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0120" y="56610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Tw Cen MT"/>
              </a:rPr>
              <a:t>wyniki sportow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pole tekstowe 3"/>
          <p:cNvSpPr/>
          <p:nvPr/>
        </p:nvSpPr>
        <p:spPr>
          <a:xfrm>
            <a:off x="611280" y="620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5f55"/>
                </a:solidFill>
                <a:latin typeface="Tw Cen MT"/>
              </a:rPr>
              <a:t>Za pomocą cyfr i liczb wyrażamy wiele informacji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3" name="Picture 3" descr="C:\Users\Ania\AppData\Local\Microsoft\Windows\Temporary Internet Files\Content.IE5\FZ4DAB55\MP900407439[1].jpg"/>
          <p:cNvPicPr/>
          <p:nvPr/>
        </p:nvPicPr>
        <p:blipFill>
          <a:blip r:embed="rId1"/>
          <a:stretch/>
        </p:blipFill>
        <p:spPr>
          <a:xfrm>
            <a:off x="3240000" y="1628640"/>
            <a:ext cx="3060720" cy="2040120"/>
          </a:xfrm>
          <a:prstGeom prst="rect">
            <a:avLst/>
          </a:prstGeom>
          <a:ln w="0">
            <a:noFill/>
          </a:ln>
        </p:spPr>
      </p:pic>
      <p:pic>
        <p:nvPicPr>
          <p:cNvPr id="414" name="Symbol zastępczy zawartości 6" descr=""/>
          <p:cNvPicPr/>
          <p:nvPr/>
        </p:nvPicPr>
        <p:blipFill>
          <a:blip r:embed="rId2"/>
          <a:srcRect l="0" t="7429" r="0" b="487"/>
          <a:stretch/>
        </p:blipFill>
        <p:spPr>
          <a:xfrm>
            <a:off x="108000" y="1628640"/>
            <a:ext cx="2952720" cy="2040120"/>
          </a:xfrm>
          <a:prstGeom prst="rect">
            <a:avLst/>
          </a:prstGeom>
          <a:ln w="0">
            <a:noFill/>
          </a:ln>
        </p:spPr>
      </p:pic>
      <p:pic>
        <p:nvPicPr>
          <p:cNvPr id="415" name="Obraz 9" descr=""/>
          <p:cNvPicPr/>
          <p:nvPr/>
        </p:nvPicPr>
        <p:blipFill>
          <a:blip r:embed="rId3"/>
          <a:stretch/>
        </p:blipFill>
        <p:spPr>
          <a:xfrm>
            <a:off x="34920" y="3668760"/>
            <a:ext cx="3097080" cy="1165320"/>
          </a:xfrm>
          <a:prstGeom prst="rect">
            <a:avLst/>
          </a:prstGeom>
          <a:ln w="0">
            <a:noFill/>
          </a:ln>
        </p:spPr>
      </p:pic>
      <p:pic>
        <p:nvPicPr>
          <p:cNvPr id="416" name="Obraz 8" descr=""/>
          <p:cNvPicPr/>
          <p:nvPr/>
        </p:nvPicPr>
        <p:blipFill>
          <a:blip r:embed="rId4"/>
          <a:stretch/>
        </p:blipFill>
        <p:spPr>
          <a:xfrm>
            <a:off x="3235320" y="3668760"/>
            <a:ext cx="3597120" cy="1093680"/>
          </a:xfrm>
          <a:prstGeom prst="rect">
            <a:avLst/>
          </a:prstGeom>
          <a:ln w="0">
            <a:noFill/>
          </a:ln>
        </p:spPr>
      </p:pic>
      <p:pic>
        <p:nvPicPr>
          <p:cNvPr id="417" name="Obraz 10" descr=""/>
          <p:cNvPicPr/>
          <p:nvPr/>
        </p:nvPicPr>
        <p:blipFill>
          <a:blip r:embed="rId5"/>
          <a:stretch/>
        </p:blipFill>
        <p:spPr>
          <a:xfrm>
            <a:off x="5299200" y="5084640"/>
            <a:ext cx="3711600" cy="16257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Users\Ania\AppData\Local\Microsoft\Windows\Temporary Internet Files\Content.IE5\SI614T7F\MP900430733[1].jpg"/>
          <p:cNvPicPr/>
          <p:nvPr/>
        </p:nvPicPr>
        <p:blipFill>
          <a:blip r:embed="rId6"/>
          <a:srcRect l="6650" t="0" r="0" b="0"/>
          <a:stretch/>
        </p:blipFill>
        <p:spPr>
          <a:xfrm>
            <a:off x="6711840" y="2492280"/>
            <a:ext cx="228456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75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9" dur="1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75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75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9" dur="1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75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75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9" dur="1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75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75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500"/>
                            </p:stCondLst>
                            <p:childTnLst>
                              <p:par>
                                <p:cTn id="4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59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8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81">
                                          <p:stCondLst>
                                            <p:cond delay="581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90">
                                          <p:stCondLst>
                                            <p:cond delay="115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44">
                                          <p:stCondLst>
                                            <p:cond delay="144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" dur="23" fill="hold">
                                          <p:stCondLst>
                                            <p:cond delay="56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5" dur="145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3" fill="hold">
                                          <p:stCondLst>
                                            <p:cond delay="114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" dur="145" fill="hold">
                                          <p:stCondLst>
                                            <p:cond delay="1171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3" fill="hold">
                                          <p:stCondLst>
                                            <p:cond delay="1437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" dur="145" fill="hold">
                                          <p:stCondLst>
                                            <p:cond delay="145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3" fill="hold">
                                          <p:stCondLst>
                                            <p:cond delay="1582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1" dur="145" fill="hold">
                                          <p:stCondLst>
                                            <p:cond delay="1605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8T11:56:23Z</dcterms:created>
  <dc:creator>Ania</dc:creator>
  <dc:description/>
  <dc:language>en-US</dc:language>
  <cp:lastModifiedBy>Ania</cp:lastModifiedBy>
  <dcterms:modified xsi:type="dcterms:W3CDTF">2013-09-03T20:20:06Z</dcterms:modified>
  <cp:revision>56</cp:revision>
  <dc:subject/>
  <dc:title>Liczby i cyfry</dc:title>
</cp:coreProperties>
</file>